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731B-AEF4-411A-998D-C30C2EA2E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DD45-612F-4B67-B080-215AA6994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57D-7F5B-4C89-B217-B4E53578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CDF-7DE0-41D5-B15A-5940C61A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AD9-F473-410C-8FB3-30B86231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44C-A4D9-4674-8431-424EA56F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B7F-6957-46DF-9A6B-D0FB9C43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143-DE6B-4310-BEC3-0FF7F2DB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9A0-453E-446D-85F1-45D91532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562-8C88-4258-ADAD-6174BDE1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31C-0818-4544-9228-CDB05C14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E0A-AE30-4EE3-B426-F06E2C73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0A3-ECF0-4F92-A0B4-1579BFC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025-325B-4238-875B-CD0D5D9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5A5E-B583-44DF-B33B-F3528793F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160" y="91800"/>
            <a:ext cx="8959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OUS/ASYNCHRONOUS LEARNING COMPARI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762120"/>
          <a:ext cx="8534520" cy="5790960"/>
        </p:xfrm>
        <a:graphic>
          <a:graphicData uri="http://schemas.openxmlformats.org/drawingml/2006/table">
            <a:tbl>
              <a:tblPr/>
              <a:tblGrid>
                <a:gridCol w="1414440"/>
                <a:gridCol w="3346560"/>
                <a:gridCol w="3773520"/>
              </a:tblGrid>
              <a:tr h="623880">
                <a:tc>
                  <a:txBody>
                    <a:bodyPr lIns="86760" rIns="86760" tIns="43560" bIns="43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nchron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ynchro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308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mediat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e of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al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n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process info and formulate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37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d Reflection Ti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w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sense of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s self-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ction is limited to written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0843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ers can follow along with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 infl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rd teleconfer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de calendar or tim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er collaboration for discu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n-ended questions by facilit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6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ructor Led 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learners engag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centered 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ck learner partic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08432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edule time to attend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y actively engaged and avoid distr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-time inte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tIns="43560" bIns="43560" anchor="t">
                      <a:noAutofit/>
                    </a:bodyPr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own 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tain self-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s can be asked at any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5360" indent="-225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3:37:21Z</dcterms:created>
  <dc:creator>PATNPENS</dc:creator>
  <dc:description/>
  <dc:language>en-US</dc:language>
  <cp:lastModifiedBy>PATNPENS</cp:lastModifiedBy>
  <dcterms:modified xsi:type="dcterms:W3CDTF">2012-03-07T18:16:08Z</dcterms:modified>
  <cp:revision>7</cp:revision>
  <dc:subject/>
  <dc:title>SYNCHRONOUS/ASYNCHRONOUS LEARNING COMPARISON</dc:title>
</cp:coreProperties>
</file>